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8EC4D5-19B2-4488-B465-12932CF47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04920" y="703440"/>
            <a:ext cx="4694400" cy="3520800"/>
          </a:xfrm>
          <a:prstGeom prst="rect">
            <a:avLst/>
          </a:prstGeom>
          <a:ln w="0">
            <a:noFill/>
          </a:ln>
        </p:spPr>
      </p:sp>
      <p:sp>
        <p:nvSpPr>
          <p:cNvPr id="32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04920" y="703440"/>
            <a:ext cx="4694400" cy="3520800"/>
          </a:xfrm>
          <a:prstGeom prst="rect">
            <a:avLst/>
          </a:prstGeom>
          <a:ln w="0">
            <a:noFill/>
          </a:ln>
        </p:spPr>
      </p:sp>
      <p:sp>
        <p:nvSpPr>
          <p:cNvPr id="32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4920" y="703440"/>
            <a:ext cx="4694400" cy="3520800"/>
          </a:xfrm>
          <a:prstGeom prst="rect">
            <a:avLst/>
          </a:prstGeom>
          <a:ln w="0">
            <a:noFill/>
          </a:ln>
        </p:spPr>
      </p:sp>
      <p:sp>
        <p:nvSpPr>
          <p:cNvPr id="32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479FA-6287-47EC-9228-A6233CFD6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70B1-8822-4680-87B2-967D299D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B7BE9-CFC8-463D-BC2C-A2D3972EE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0D86F-540B-49D0-9265-288C8E826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8A821-4F4E-4264-8CB5-B900B643B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8D1D9-EB1C-4FE7-B21E-5FEBD93F3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07196-9176-4CB5-9232-98B6CFB7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0454A-3813-46FE-B08D-7B96A3FD0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1E8F0-531F-4F45-B80A-C228CD3C6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0A802-E366-460A-AD87-F4A95964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50CB6-052D-4565-A63E-420326694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0CF1-B316-48A6-97C5-5ADC784C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EF35-E670-4DA1-985F-E9E262F59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0A15F-671E-44ED-A622-C571973FE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FCE1F-DF22-44FD-8A53-82E38F43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455F1-FC1D-467F-9368-913D7DBB4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525B0-2185-4A79-8048-1E527AEFA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1F314E-B1D8-4D82-9AA9-551F1DDBE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CD85F-1AE4-4F87-957B-C81942954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14B213-2953-49D3-9C79-92CE85E07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78310-11DC-4F59-B70C-E2CE02170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66D4A-9A49-4731-BA72-5EBA8A733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4844-C8F6-4B6D-B6A2-969A9A973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DDE8E-9269-46A0-8FCB-1675C7882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1563B-4C6A-428A-965F-499A337B0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4C4AC-76C2-4A77-80FE-79F7D0B25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11DDF-5688-4278-9599-AAF07ACD4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20DE8-C7DE-49D6-BD93-00775C133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96A938-2B38-4BB3-B652-8F2B32225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33C4C-ECF7-4401-BEE1-22F3796435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79664-87D2-4612-AE82-D2FDBA3FDF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7C5F1-4CAA-44B2-9776-F7512FD87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5A436-DBFF-4065-A4D8-015A00602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F3C28-A40B-4844-AEAA-72A0C8C22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7A760-226F-42A7-BE04-BB1C1DE8E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3A82D-23DE-435D-9643-4C139EFAB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0145D-3D2B-4DB2-89E4-B3378E742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E8DA1-0E95-44A1-99D3-719253F31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DD889-3C7D-4140-B3DB-7E48C0421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6280A-AB00-4A82-83A5-3493963A3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0AB06-673C-4A51-8BC7-FE16E367F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3E8F6-3F85-4A80-8775-08BBC07A9B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45FF7-0DC6-4D7A-91CE-954A47AA57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DCBE-8F0F-497C-B644-C3BAB2CEF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98941-AD64-478C-8368-13A95707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B898-81B7-4DA0-B178-DAC3FD92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DB3B-F179-4557-B6D1-5BC92452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CED4-7A74-4550-8DCE-6A607202A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4F14-2E96-407D-8C5B-18775CB084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6667-CB60-41AE-B901-AF59B1A019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28AA-0718-4EF7-B5A7-F9F94FCCBCE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3F00-09B5-41D8-A445-01982B445E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7926480" y="8228160"/>
            <a:ext cx="1523880" cy="304560"/>
          </a:xfrm>
          <a:prstGeom prst="leftArrow">
            <a:avLst>
              <a:gd name="adj1" fmla="val 50000"/>
              <a:gd name="adj2" fmla="val 125089"/>
            </a:avLst>
          </a:prstGeom>
          <a:solidFill>
            <a:srgbClr val="82452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572000" y="1143000"/>
            <a:ext cx="4114800" cy="685800"/>
          </a:xfrm>
          <a:prstGeom prst="wedgeRoundRectCallout">
            <a:avLst>
              <a:gd name="adj1" fmla="val -43518"/>
              <a:gd name="adj2" fmla="val 70000"/>
              <a:gd name="adj3" fmla="val 16667"/>
            </a:avLst>
          </a:prstGeom>
          <a:solidFill>
            <a:srgbClr val="e3cd74"/>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6"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9"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51"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5"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7"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8"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6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62"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94">
                                            <p:txEl>
                                              <p:pRg st="0" end="0"/>
                                            </p:txEl>
                                          </p:spTgt>
                                        </p:tgtEl>
                                        <p:attrNameLst>
                                          <p:attrName>style.visibility</p:attrName>
                                        </p:attrNameLst>
                                      </p:cBhvr>
                                      <p:to>
                                        <p:strVal val="visible"/>
                                      </p:to>
                                    </p:set>
                                    <p:anim calcmode="lin" valueType="num">
                                      <p:cBhvr additive="base">
                                        <p:cTn id="13"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tspeicher</cp:lastModifiedBy>
  <dcterms:modified xsi:type="dcterms:W3CDTF">2009-03-24T19:08:50Z</dcterms:modified>
  <cp:revision>4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