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9A154F-9146-4660-BE8F-E6FA7F264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04920" y="703440"/>
            <a:ext cx="4694400" cy="3520800"/>
          </a:xfrm>
          <a:prstGeom prst="rect">
            <a:avLst/>
          </a:prstGeom>
          <a:ln w="0">
            <a:noFill/>
          </a:ln>
        </p:spPr>
      </p:sp>
      <p:sp>
        <p:nvSpPr>
          <p:cNvPr id="32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04920" y="703440"/>
            <a:ext cx="4694400" cy="3520800"/>
          </a:xfrm>
          <a:prstGeom prst="rect">
            <a:avLst/>
          </a:prstGeom>
          <a:ln w="0">
            <a:noFill/>
          </a:ln>
        </p:spPr>
      </p:sp>
      <p:sp>
        <p:nvSpPr>
          <p:cNvPr id="32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04920" y="703440"/>
            <a:ext cx="4694400" cy="3520800"/>
          </a:xfrm>
          <a:prstGeom prst="rect">
            <a:avLst/>
          </a:prstGeom>
          <a:ln w="0">
            <a:noFill/>
          </a:ln>
        </p:spPr>
      </p:sp>
      <p:sp>
        <p:nvSpPr>
          <p:cNvPr id="32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E065F-A9BC-41B3-8EFB-07AEBD1BC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CA74D-39D5-4058-8D57-ADE79C0D1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D7C07-996E-4B8E-8D01-B71FB0944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552C6-BB1F-4EE2-BB96-989304178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B0208-B9C6-4250-9602-A99FA6415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73607-5B08-4A0B-A4E8-FA569087D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171B4-B186-4DDC-A3BA-E4678B7FB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A9CFA-2B48-4625-95D2-34A04E794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2964E-298E-49DF-BE74-C88600380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28DFB-1B9A-4110-8B94-6342D120B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C72B0-8469-41D4-A184-4927FC331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8629B-A7E9-498E-AB2C-A9F19C243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179C7-263B-4CEB-B2FA-0908E8487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EC8E0-EB03-4E08-848F-94E5DDFFE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45BE1-5F13-4F5D-A025-B7EF838EB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18914-3561-4886-80B1-5495884F7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BB9C2-5E50-4BA6-B730-0F897306E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5398CF-3B54-4EDB-9621-30B188EB37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7DDCF3-04B5-4F0B-84FE-858066E20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B17FD-56E2-4ED7-84C9-7BA7AFC41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477FC-4EB9-45D2-A37F-A830677F8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9FE9D-AD9F-429C-A8FC-9F4789AE3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EACDE-80D1-46C2-9150-A5DC32E4C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FFEB05-F762-49F3-A77A-1505FA1A4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68428-1FE2-46A4-A250-3C5D2E43F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1247F-413C-4923-B3BA-F8B160529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CF06C-2A5A-4AD2-98DA-7C74A813A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F2E7F-8797-4AE6-A5B2-1AD14E8DC8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042770-640F-409A-8C8A-31638829D5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5D1FFD-DD43-4883-BFBE-C757E93D7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AE7A8C-532B-4EB6-93F7-A82293FDDC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4896B-694F-40FD-9338-C6BD4371E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91EC6-8D5F-4097-9CEB-83A596787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424C3-46A2-40AA-9A69-B3D4B1BC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AC6AD-ABB0-41AC-AE00-9FD9ECF70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69AE6-1355-40AF-BD9D-ED13361C8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0A967-5E24-430B-94E3-7EA0DCB0D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8B2A1-816D-434A-8206-EAA1FB75B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9B504C-8158-4FC9-8479-71EBFAD85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9C361-CB32-43CC-AE72-98CEC4A31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1E2A2-F81F-4079-80B2-58283DA39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1CA433-18F3-426C-96C1-2A2B93D95C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1A250-07BA-42D5-80B1-BDE28508E5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C565-6FE0-496F-A5CA-C8D64E88E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96E46-0A98-4D59-B072-690CE9331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EC7B-6564-4878-A96C-651C6ECD2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9B75-A58B-418B-B5C2-BE664C1B5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64D4-0010-44A0-A6C1-1EEC15B79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DAE3-E76F-42D0-8283-6DAE24278D5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1408-3ED0-4FC3-92E4-6426AF7FFBB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0CF7-CD94-418B-AC4B-7970AEA3EA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F884-9AFC-4D39-91F9-71D6103B0A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3">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9" name=""/>
          <p:cNvSpPr/>
          <p:nvPr/>
        </p:nvSpPr>
        <p:spPr>
          <a:xfrm>
            <a:off x="7926480" y="8228160"/>
            <a:ext cx="1523880" cy="304560"/>
          </a:xfrm>
          <a:prstGeom prst="leftArrow">
            <a:avLst>
              <a:gd name="adj1" fmla="val 50000"/>
              <a:gd name="adj2" fmla="val 125089"/>
            </a:avLst>
          </a:prstGeom>
          <a:solidFill>
            <a:srgbClr val="82452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572000" y="1143000"/>
            <a:ext cx="4114800" cy="685800"/>
          </a:xfrm>
          <a:prstGeom prst="wedgeRoundRectCallout">
            <a:avLst>
              <a:gd name="adj1" fmla="val -43518"/>
              <a:gd name="adj2" fmla="val 70000"/>
              <a:gd name="adj3" fmla="val 16667"/>
            </a:avLst>
          </a:prstGeom>
          <a:solidFill>
            <a:srgbClr val="e3cd74"/>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4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6"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9"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51"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5"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7"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8"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60"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62"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94">
                                            <p:txEl>
                                              <p:pRg st="0" end="0"/>
                                            </p:txEl>
                                          </p:spTgt>
                                        </p:tgtEl>
                                        <p:attrNameLst>
                                          <p:attrName>style.visibility</p:attrName>
                                        </p:attrNameLst>
                                      </p:cBhvr>
                                      <p:to>
                                        <p:strVal val="visible"/>
                                      </p:to>
                                    </p:set>
                                    <p:anim calcmode="lin" valueType="num">
                                      <p:cBhvr additive="base">
                                        <p:cTn id="13"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tspeicher</cp:lastModifiedBy>
  <dcterms:modified xsi:type="dcterms:W3CDTF">2009-03-24T19:08:50Z</dcterms:modified>
  <cp:revision>4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