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D045A0-040A-4261-B032-04108C012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04920" y="703440"/>
            <a:ext cx="4694400" cy="3520800"/>
          </a:xfrm>
          <a:prstGeom prst="rect">
            <a:avLst/>
          </a:prstGeom>
          <a:ln w="0">
            <a:noFill/>
          </a:ln>
        </p:spPr>
      </p:sp>
      <p:sp>
        <p:nvSpPr>
          <p:cNvPr id="25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the handout titled “Worthy Web Sites” in you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a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04920" y="703440"/>
            <a:ext cx="4694400" cy="3520800"/>
          </a:xfrm>
          <a:prstGeom prst="rect">
            <a:avLst/>
          </a:prstGeom>
          <a:ln w="0">
            <a:noFill/>
          </a:ln>
        </p:spPr>
      </p:sp>
      <p:sp>
        <p:nvSpPr>
          <p:cNvPr id="26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4920" y="703440"/>
            <a:ext cx="4694400" cy="3520800"/>
          </a:xfrm>
          <a:prstGeom prst="rect">
            <a:avLst/>
          </a:prstGeom>
          <a:ln w="0">
            <a:noFill/>
          </a:ln>
        </p:spPr>
      </p:sp>
      <p:sp>
        <p:nvSpPr>
          <p:cNvPr id="26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497C6-46C5-48AD-95F7-DF13C9B04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C8E56-AD61-4E96-A9D4-FFB992B2A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0B2DA-B0F9-4C42-97A6-584873B01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29418-0215-4C67-9F54-F1BD322C0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C9422-8FD3-42F7-BFF1-78B22CEFA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B3BF8-B8CB-419D-AF4D-205DEC732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2B703-5083-45FC-B732-D5C99F582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8328B-7E2F-4267-B86E-D5E8525AE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5F1AA-366D-418D-935B-38F4576C6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F7656-B0AE-47A8-9170-9FC8D6DF8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DD5A-6E76-489C-A42C-F869B7347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D40A-3784-441D-A1B2-B7D6ACBC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F9028-352F-4E89-B813-443F3FEA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AFBF5-1856-4A36-818F-CF747E616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E8724-07A1-4AEC-A33A-197F64384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FD09C-DB54-4C73-A54B-60E791B19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E8BF3-9887-4271-A628-21FEE81A2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873A4D-E545-4F9B-A3B8-932954CE98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3932D-6D34-4149-BB7C-C429E21647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AF7B3-B24E-4BCE-B064-E56E04BA6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DE438-9C0D-41E2-B5D2-779914AFE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1E7C9-7448-4DCB-BB7B-F8066BFC2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9FF5-7097-4FC6-A9FD-E893150F1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C4B45-4E89-459D-9DBA-93B60C2A4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F50B9-2BD6-4E2E-A5EF-7201013A4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604DF-64C2-4CD9-9A1F-86855B122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14A8D-9A1B-4188-B4BC-BEEF516C6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0C2C0-4E46-441F-8926-A7710E54B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2CCF8F-CF4F-459F-89BE-F8E8C46A25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2840A-F5A0-43AA-945E-A10EA3DEF9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A8C434-B1ED-48D1-B54D-2037BC5FC2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6A9F7-C1D1-4DDE-96E4-1D4488CEE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4ECE46-BFC2-49C3-B8D3-57A9BADEF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1527-DAFA-4DF5-A942-2892DF902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8879E-CD21-4B97-9AA8-A254B647E0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B5A5B-6DEF-4121-BFC1-464BC5564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466D6-F10A-4D10-9976-B039AF3AB7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91FFB-1C07-4B5C-916C-DE9048655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EE22D-1410-49CB-BE26-60F2EA02C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EA4AE-2718-4BB0-B04F-B107AA41F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A4E66A-9ED4-44DF-BF7A-7FC862B85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8EF96D-FFB0-4558-87EC-C81CD0E117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700734-1F05-4C8F-B61C-2E7321474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885F-FE14-4E67-BF71-743F67C4F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C87DA-CC30-4339-AA4A-77C2D439C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3BEF-541B-4624-AD86-119E59FFD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3F5AF-C667-46B7-8DC9-EE105743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6928-62A3-4577-8F97-900A86AE7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4073-FA19-449F-8FFB-7A07F4376F7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A215-8FDC-4660-BBFD-336100C9266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E51A-77F4-4304-B768-57EE4783B2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DBBF-0E9E-44CB-BE2E-0C6AD179F0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536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cabul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pain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symb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ca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i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lge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cation 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0"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3"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45"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49"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1"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2"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5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56"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t your 21</a:t>
            </a:r>
            <a:r>
              <a:rPr b="0" lang="en-US" sz="2100" spc="-1" strike="noStrike" baseline="30000">
                <a:solidFill>
                  <a:srgbClr val="000000"/>
                </a:solidFill>
                <a:latin typeface="Arial"/>
              </a:rPr>
              <a:t>st</a:t>
            </a:r>
            <a:r>
              <a:rPr b="0" lang="en-US" sz="2100" spc="-1" strike="noStrike">
                <a:solidFill>
                  <a:srgbClr val="000000"/>
                </a:solidFill>
                <a:latin typeface="Arial"/>
              </a:rPr>
              <a:t> Century Skills Map at: www.21stcenturyskills.or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ulink</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 Fusion</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dline</a:t>
            </a:r>
            <a:endParaRPr b="0" lang="en-US" sz="2800" spc="-1" strike="noStrike">
              <a:solidFill>
                <a:srgbClr val="000000"/>
              </a:solidFill>
              <a:latin typeface="Arial"/>
            </a:endParaRPr>
          </a:p>
          <a:p>
            <a:pPr lvl="1" marL="457200">
              <a:lnSpc>
                <a:spcPct val="100000"/>
              </a:lnSpc>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oolmax</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194">
                                            <p:txEl>
                                              <p:pRg st="0" end="0"/>
                                            </p:txEl>
                                          </p:spTgt>
                                        </p:tgtEl>
                                        <p:attrNameLst>
                                          <p:attrName>style.visibility</p:attrName>
                                        </p:attrNameLst>
                                      </p:cBhvr>
                                      <p:to>
                                        <p:strVal val="visible"/>
                                      </p:to>
                                    </p:set>
                                    <p:anim calcmode="lin" valueType="num">
                                      <p:cBhvr additive="base">
                                        <p:cTn id="17"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8"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Christy Lamb</cp:lastModifiedBy>
  <dcterms:modified xsi:type="dcterms:W3CDTF">2009-03-26T15:27:14Z</dcterms:modified>
  <cp:revision>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