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93CDCD-1769-4056-9F8C-C298A8784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04920" y="703440"/>
            <a:ext cx="4694400" cy="3520800"/>
          </a:xfrm>
          <a:prstGeom prst="rect">
            <a:avLst/>
          </a:prstGeom>
          <a:ln w="0">
            <a:noFill/>
          </a:ln>
        </p:spPr>
      </p:sp>
      <p:sp>
        <p:nvSpPr>
          <p:cNvPr id="25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the handout titled “Worthy Web Sites” in you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a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4920" y="703440"/>
            <a:ext cx="4694400" cy="3520800"/>
          </a:xfrm>
          <a:prstGeom prst="rect">
            <a:avLst/>
          </a:prstGeom>
          <a:ln w="0">
            <a:noFill/>
          </a:ln>
        </p:spPr>
      </p:sp>
      <p:sp>
        <p:nvSpPr>
          <p:cNvPr id="26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4920" y="703440"/>
            <a:ext cx="4694400" cy="3520800"/>
          </a:xfrm>
          <a:prstGeom prst="rect">
            <a:avLst/>
          </a:prstGeom>
          <a:ln w="0">
            <a:noFill/>
          </a:ln>
        </p:spPr>
      </p:sp>
      <p:sp>
        <p:nvSpPr>
          <p:cNvPr id="26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CA57F-21C1-49BB-BEBE-2B55AE487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1207-125B-4BA0-88A3-BBFAB3F47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B1C37-8CD1-436C-AB74-30C85C82E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81202-193A-4416-8B94-0B6041017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251E5-0B7B-49DA-A46D-5DB9F100D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1FA4E-0635-4B5F-BA82-CE0614493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5157B-F2F9-448D-9B65-17783C37E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9EF92-0D0F-488A-80D3-3E058CED8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872FC-CD08-4157-982B-1C9BDCA2D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8F5FE-1DC0-4C06-9E02-6C9EBD75F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E6BD3-9D98-4A5E-A902-E088D7C54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EEA1C-649A-460F-93B9-4A571DFF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7297E-33F4-4AD5-B4D7-ECE92BF17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C0C07-7E73-41EA-8796-FD3510F12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DE422-AFF2-4D6E-9202-EE3628B07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C14DB-812F-49F7-BA59-6F51AD010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35FBF-5D64-476E-A36B-4D7949D56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392452-ECD1-4CB3-A48F-7C2DE739F2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0CD89-74B7-4C30-A59F-C2B19B1BC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34556-AD4F-41E9-81C7-FDCD097535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4F5FE-E08D-41D6-AB0B-92A43B6E5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74D08-DA78-4883-8B0B-0FE04F2E6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9978-4966-4BDB-AFCA-083B2EF54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87B6E-02E2-49F6-BC5F-15A945BF5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0C371-3898-4D77-A9E3-0E16DD727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BAFAC3-6521-429C-A897-A8CCBC1A5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7CABA-CA58-4E13-874F-266AE682F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9FC36-435B-44EA-B49A-19947269F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6273E7-753C-47FD-8D37-FA4E33E6A5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62832F-2847-4A82-9FFE-0F51246851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2E3A7C-C238-4938-B001-462FC68A6F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E3454-8543-4F47-9C22-DCCB2499B9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27A08-D19F-433E-A74D-590F50FA0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5D4D8-62DF-4B79-BBD1-23D3A587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A6837-8FE7-4941-93D7-19FC8DE4B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26D3C-7920-4C55-800B-3E7B760DC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14C20-BA38-403F-88DB-B78B41D7D1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66791-09DA-4208-9377-2A934EC3C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23AF7-57FB-4B74-BD2B-5E1251A02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70C8F-8D2C-4926-9083-7C84545AD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A896D-DB0F-4A2A-8885-CF4FEF348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41D9E6-029C-4902-BA30-5A35EE686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24C4A9-3C8E-4C61-969E-AAF7618D16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E171A-EDBB-4B27-8FDF-C442386F7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B68D2-A077-4D41-A8EA-59F017455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B7D4-C149-47BC-A6AC-B3EB14787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53FA0-A6BD-4AFB-BAF5-1E901394E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3A3B-84C7-450C-B164-0B91588A6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1F0F-5AE6-4AC9-A07A-08CE14B94B8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89E2-D04D-4BA4-9F91-31D74B59A7D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C227-EEF7-4C1C-926D-CD8FA0A754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1BB7-0B05-4CB3-81DA-BBCD8AB1BA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536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cabul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pain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symb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ca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i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lgeb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ation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0"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3"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45"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49"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1"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2"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5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56"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t your 21</a:t>
            </a:r>
            <a:r>
              <a:rPr b="0" lang="en-US" sz="2100" spc="-1" strike="noStrike" baseline="30000">
                <a:solidFill>
                  <a:srgbClr val="000000"/>
                </a:solidFill>
                <a:latin typeface="Arial"/>
              </a:rPr>
              <a:t>st</a:t>
            </a:r>
            <a:r>
              <a:rPr b="0" lang="en-US" sz="2100" spc="-1" strike="noStrike">
                <a:solidFill>
                  <a:srgbClr val="000000"/>
                </a:solidFill>
                <a:latin typeface="Arial"/>
              </a:rPr>
              <a:t> Century Skills Map at: www.21stcenturyskills.or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ulin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 Fusion</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line</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max</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194">
                                            <p:txEl>
                                              <p:pRg st="0" end="0"/>
                                            </p:txEl>
                                          </p:spTgt>
                                        </p:tgtEl>
                                        <p:attrNameLst>
                                          <p:attrName>style.visibility</p:attrName>
                                        </p:attrNameLst>
                                      </p:cBhvr>
                                      <p:to>
                                        <p:strVal val="visible"/>
                                      </p:to>
                                    </p:set>
                                    <p:anim calcmode="lin" valueType="num">
                                      <p:cBhvr additive="base">
                                        <p:cTn id="17"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8"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Christy Lamb</cp:lastModifiedBy>
  <dcterms:modified xsi:type="dcterms:W3CDTF">2009-03-26T15:27:14Z</dcterms:modified>
  <cp:revision>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